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E2467-F395-4B0A-AB92-277872C4AF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4:  It’s a Matter of Time – The Pattern for Children’s Ministry (Deuteronomy 6:6-9)</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A45A3-5123-4602-9CEC-4EB321F70CF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have:  </a:t>
            </a:r>
            <a:r>
              <a:rPr b="1" lang="en-US" sz="1200" spc="-1" strike="noStrike">
                <a:solidFill>
                  <a:srgbClr val="000000"/>
                </a:solidFill>
                <a:latin typeface="Humanst521 BT"/>
              </a:rPr>
              <a:t>Balanced Teach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lanned, structured teaching times are not enough!  The teaching will become an academic exercise with little application to real life.  Neither can parents only be spontaneous—without a planned approach, they are like to miss communicating important truth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eaching children the words of God “in your house” without making them relevant “by the way” produces hollow orthodoxy.  We produce children who win Bible quizzes and always have the answer in Sabbath School but never bother with how Scripture should guide them on Tuesday at soccer practic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relevance “by the way” without the words of God “in the house’ is equally dangerous. Moral teaching without a firm foundation in absolute truth is mere relativism—no different from any other worldview.</a:t>
            </a:r>
            <a:endParaRPr b="0" lang="en-US" sz="1200" spc="-1" strike="noStrike">
              <a:solidFill>
                <a:srgbClr val="000000"/>
              </a:solidFill>
              <a:latin typeface="Humanst521 BT"/>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6FF12-D06E-42ED-88C0-D09F915B066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hen you lie down, and when you rise up.”  Deut 6:7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3rd &amp; 4th phrase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view and reflection at the end of the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eparation for a new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ominant lifestyle characteristic of the  hom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183F8-E8D6-46C2-9734-9B333315314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practice:  </a:t>
            </a:r>
            <a:r>
              <a:rPr b="1" lang="en-US" sz="1200" spc="-1" strike="noStrike">
                <a:solidFill>
                  <a:srgbClr val="000000"/>
                </a:solidFill>
                <a:latin typeface="Humanst521 BT"/>
              </a:rPr>
              <a:t>Consistent,</a:t>
            </a:r>
            <a:r>
              <a:rPr b="0" lang="en-US" sz="1200" spc="-1" strike="noStrike">
                <a:solidFill>
                  <a:srgbClr val="000000"/>
                </a:solidFill>
                <a:latin typeface="Humanst521 BT"/>
              </a:rPr>
              <a:t> </a:t>
            </a:r>
            <a:r>
              <a:rPr b="1" lang="en-US" sz="1200" spc="-1" strike="noStrike">
                <a:solidFill>
                  <a:srgbClr val="000000"/>
                </a:solidFill>
                <a:latin typeface="Humanst521 BT"/>
              </a:rPr>
              <a:t>Continuous Lifesty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oses mentioned an important pattern:  Review and reflection at the end of the day and preparing for the new day (“when you lie down and when you rise up” Deut 6:7).  Teaching God’s Word is to be the dominant lifestyle characteristic in the home.  </a:t>
            </a:r>
            <a:endParaRPr b="0" lang="en-US" sz="1200" spc="-1" strike="noStrike">
              <a:solidFill>
                <a:srgbClr val="000000"/>
              </a:solidFill>
              <a:latin typeface="Humanst521 BT"/>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49213-BE08-4807-955B-42B525FED3B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ind them as a sign on your hand, and they shall be as frontlets between your eyes.”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cording to Jewish tradition, sometime possibly after the return of the Jews from exile in Babylon and Persia, the Jews began the practice of binding small leather boxes—frontlets, which are called phylacteries or </a:t>
            </a:r>
            <a:r>
              <a:rPr b="0" i="1" lang="en-US" sz="1200" spc="-1" strike="noStrike">
                <a:solidFill>
                  <a:srgbClr val="000000"/>
                </a:solidFill>
                <a:latin typeface="Humanst521 BT"/>
              </a:rPr>
              <a:t>tefillim</a:t>
            </a:r>
            <a:r>
              <a:rPr b="0" lang="en-US" sz="1200" spc="-1" strike="noStrike">
                <a:solidFill>
                  <a:srgbClr val="000000"/>
                </a:solidFill>
                <a:latin typeface="Humanst521 BT"/>
              </a:rPr>
              <a:t> today—with straps on their hands and on their foreheads.  In the boxes, they would place small pieces of paper with this passage and others written on them.  Jesus referred to this practice in Matthew 23:5.  Devout Jews to this day continue their literalistic  interpretation of this passag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Constant exposur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ike a “What Would Jesus Do?” bracelet – a reminder.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hand – what YOU se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forehead – what OTHERS see</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788B4-5B2D-4F95-A204-65ABB410B39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needs:  </a:t>
            </a:r>
            <a:r>
              <a:rPr b="1" lang="en-US" sz="1200" spc="-1" strike="noStrike">
                <a:solidFill>
                  <a:srgbClr val="000000"/>
                </a:solidFill>
                <a:latin typeface="Humanst521 BT"/>
              </a:rPr>
              <a:t>Scripture Exposu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ind them as a sign on your hand, and they shall be as frontlets between your eyes.” —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4FB02-A847-4D3F-98C0-0DFEB501794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rite them on the doorposts on your house and on your gates.”  Deut. 6: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Memory trigger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ast thing you see before you leave your hou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first thing others see when entering your h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th memorizing God’s Word, we can:</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alk about God’s Word and what it means and ways to obey it when we “walk by the wa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keep Scripture constantly before our eyes (mentall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editate on God's Word before we fall asleep and when we wake up.</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ust God during times of disappointments and difficulti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841FA-BDF2-4B92-A16B-83DD2179FBD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value:  </a:t>
            </a:r>
            <a:r>
              <a:rPr b="1" lang="en-US" sz="1200" spc="-1" strike="noStrike">
                <a:solidFill>
                  <a:srgbClr val="000000"/>
                </a:solidFill>
                <a:latin typeface="Humanst521 BT"/>
              </a:rPr>
              <a:t>Memory Trigg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valuable to memorize and recite God’s Word.  We must also review so that there is long-term retention and obedience.  Many Christians have memorized John 3:16 and can recite it accurately upon request—that’s long-term retention.  </a:t>
            </a:r>
            <a:endParaRPr b="0" lang="en-US" sz="1200" spc="-1" strike="noStrike">
              <a:solidFill>
                <a:srgbClr val="000000"/>
              </a:solidFill>
              <a:latin typeface="Humanst521 BT"/>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82C40-09C1-4B1C-A7BF-4B350C77330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are a young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have 3 children:  2 boys and a girl, 5 to 9…</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w—think 20 years ahea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r children are 25 to 2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will you want to be able to say about your children th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FAE75-A289-419E-B271-2FB3897F9E1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Now 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s today agai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You’re still the young pare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can you do NOW that will have the greatest success in the areas you have listed as top priority?</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7E7AD-4D1A-4504-AA8F-DD68B96BF31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Object of Family Lif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Hear, O Israel: The LORD our God, the LORD is one!  You shall love the LORD your God with all your heart, with all your soul, with all your strength.”</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ea typeface="Arial"/>
              </a:rPr>
              <a:t>        —</a:t>
            </a:r>
            <a:r>
              <a:rPr b="0" i="1" lang="en-US" sz="1200" spc="-1" strike="noStrike">
                <a:solidFill>
                  <a:srgbClr val="000000"/>
                </a:solidFill>
                <a:latin typeface="Humanst521 BT"/>
              </a:rPr>
              <a:t> </a:t>
            </a:r>
            <a:r>
              <a:rPr b="0" i="1" lang="en-US" sz="1200" spc="-1" strike="noStrike">
                <a:solidFill>
                  <a:srgbClr val="000000"/>
                </a:solidFill>
                <a:latin typeface="Humanst521 BT"/>
              </a:rPr>
              <a:t>Deut. 6:4,5</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passage is…</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Sh’ma – the central statement of the Jewish faith.</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s familiar to Jews as John 3:16 is to Christians.</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verse is addressed to parents, because their actions set the pattern of action to be followed.  They have to model devotion to God themselves.  In fact, the best way a child can learn to follow God is to have a parent who sets the example.  </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FFF51-239A-4102-9430-6722CAF56ED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t>
            </a:r>
            <a:r>
              <a:rPr b="1" lang="en-US" sz="1200" spc="-1" strike="noStrike" u="sng">
                <a:solidFill>
                  <a:srgbClr val="000000"/>
                </a:solidFill>
                <a:uFillTx/>
                <a:latin typeface="Humanst521 BT"/>
              </a:rPr>
              <a:t>Object</a:t>
            </a:r>
            <a:r>
              <a:rPr b="1" lang="en-US" sz="1200" spc="-1" strike="noStrike">
                <a:solidFill>
                  <a:srgbClr val="000000"/>
                </a:solidFill>
                <a:latin typeface="Humanst521 BT"/>
              </a:rPr>
              <a:t>: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object of family life has little to do with the family’s mind-set or skill sets (or the TV set) but rather with their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ove God with all your heart!  </a:t>
            </a:r>
            <a:r>
              <a:rPr b="0" lang="en-US" sz="1200" spc="-1" strike="noStrike">
                <a:solidFill>
                  <a:srgbClr val="000000"/>
                </a:solidFill>
                <a:latin typeface="Humanst521 BT"/>
              </a:rPr>
              <a:t>“And these words which I command you today shall be in your heart …” Deut 6: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goal is a deep conviction and a priority above all else; the development of the children’s heart, soul and strength—in other words, the child’s whole being.  And in the child’s development, his or her heart, soul and strength are to be directed toward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29CC7-D445-4F7D-8586-EC5DF083725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e will achieve the </a:t>
            </a:r>
            <a:r>
              <a:rPr b="0" lang="en-US" sz="1200" spc="-1" strike="noStrike" u="sng">
                <a:solidFill>
                  <a:srgbClr val="000000"/>
                </a:solidFill>
                <a:uFillTx/>
                <a:latin typeface="Humanst521 BT"/>
              </a:rPr>
              <a:t>object</a:t>
            </a:r>
            <a:r>
              <a:rPr b="0" lang="en-US" sz="1200" spc="-1" strike="noStrike">
                <a:solidFill>
                  <a:srgbClr val="000000"/>
                </a:solidFill>
                <a:latin typeface="Humanst521 BT"/>
              </a:rPr>
              <a:t> when we surround children with the right </a:t>
            </a:r>
            <a:r>
              <a:rPr b="0" lang="en-US" sz="1200" spc="-1" strike="noStrike" u="sng">
                <a:solidFill>
                  <a:srgbClr val="000000"/>
                </a:solidFill>
                <a:uFillTx/>
                <a:latin typeface="Humanst521 BT"/>
              </a:rPr>
              <a:t>environment</a:t>
            </a:r>
            <a:r>
              <a:rPr b="0" lang="en-US" sz="1200" spc="-1" strike="noStrike">
                <a:solidFill>
                  <a:srgbClr val="000000"/>
                </a:solidFill>
                <a:latin typeface="Humanst521 BT"/>
              </a:rPr>
              <a:t>.  “You shall teach them diligently to your children…” Deut 6:6</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lifestyle that impresses God’s Word on children.  Parents are all too busy that they fail to provide an environment that teaches their children about God’s Word.  It’s just a mad rush each day to work, school, baseball practice, piano lessons, etc.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A852C-8F28-4D78-A9A1-7D50996DDBC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good environment is a home that is saturated with God’s Wor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type of family environment would be conducive to the teaching of God’s Word as priority?</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ocused parent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piritual objectiv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irected schedul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rioritized time</a:t>
            </a:r>
            <a:endParaRPr b="0" lang="en-US" sz="1200" spc="-1" strike="noStrike">
              <a:solidFill>
                <a:srgbClr val="000000"/>
              </a:solidFill>
              <a:latin typeface="Humanst521 B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are many benefits when parents teach God’s Word to their children, such as:</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diminish the possibility of your children’s involvement in sinful, destructive behavior in the future.  The psalmist said, “Your word I have hidden in my heart, that I might not sin against You” (Psalm 119:11).  When God’s Word is in the heart of a child, it keeps the child from sin.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increase the possibility of your grandchildren’s salvation and eternal destiny in heaven.</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DDCB8-F0AA-412D-8289-A2E3A4CBD46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and how can you find time to train your kids in the things of God?  Deut. 6:7 tells us that we are too train and teach “when we sit in your hou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1st phra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plann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structur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transmitting content</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mealtime – 4 questions that you can use regularly at mealtimes with your children a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1. What happened today that reminded you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What did you see today that reminds you that all people are sinners and need Jesus Chri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3. What did you hear or see that did not agree with the truth in the B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4. What part of God’s creation did you enjoy the mo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B316C-1BEC-4DC2-A67D-6A744CE4DB4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ook at the next phrase of Deut. 6:7, “…when you walk by the w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2nd phras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plann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structur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pplying content</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ny ti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Illustration:</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Hey kids, I had something neat happen today.  I went to get the oil changed in the car, and it cost $17.71.  I gave the man a twenty.  Now how much should I get back?” Dad asked the childre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yler, the oldest, said, “About three dollar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ell,” dad said, “he wasn’t thinking.  He gave me $17.71 – a whole lot more than I was supposed to get back.  Wasn’t that cool?”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avis, age 7, and Tyler, age 8, began to protest.  “You should have given it bac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hy? What does God say? Pursued their mom.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That’s like stealing, and God says, we must not steal,” replied the two boys togeth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got it.  And, then Dad assured them that he did give the money back and got the right change.  </a:t>
            </a:r>
            <a:endParaRPr b="0" lang="en-US" sz="1200" spc="-1" strike="noStrike">
              <a:solidFill>
                <a:srgbClr val="000000"/>
              </a:solidFill>
              <a:latin typeface="Humanst521 BT"/>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AB55C-1EB1-4E0B-8B57-458C38936DB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BC5837-031D-4DD3-979C-A61EBB35BC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42E03B65-A00E-4CC6-AFA0-0965E0D5F4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451AC3DB-870B-476E-BD97-95858132FA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CBCA9A63-D435-402F-8A00-02D0ECD181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1CDA801E-B2E9-4704-B0DB-7313457815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8722AC50-772A-4E01-B010-4F75BE6597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891F01C8-98A2-4F26-AC34-03D6E904CE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21F37B82-EA5E-444A-812C-75C555883D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D9A0D778-79E1-4975-A09C-1A9A57DEFF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0940C14-1E87-4423-B5F9-459320FEB9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F0CCA75-DD82-4FC8-9225-93B1B7B6FF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88F1068-E57D-4288-8A56-9B63828A83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4-</a:t>
            </a:r>
            <a:fld id="{5F188F4E-675E-42D6-AE30-B20EA2A55013}"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4:</a:t>
            </a:r>
            <a:br>
              <a:rPr sz="3200"/>
            </a:br>
            <a:r>
              <a:rPr b="1" lang="en-US" sz="4000" spc="-1" strike="noStrike">
                <a:solidFill>
                  <a:srgbClr val="434c8d"/>
                </a:solidFill>
                <a:latin typeface="Humanst521 BT"/>
              </a:rPr>
              <a:t>It’s a Matter of Tim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307EA9FC-B9C5-473B-B3B9-83A4E2091DC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59" name="Group 3"/>
          <p:cNvGrpSpPr/>
          <p:nvPr/>
        </p:nvGrpSpPr>
        <p:grpSpPr>
          <a:xfrm>
            <a:off x="5042160" y="1791360"/>
            <a:ext cx="4471200" cy="5083200"/>
            <a:chOff x="5042160" y="1791360"/>
            <a:chExt cx="4471200" cy="5083200"/>
          </a:xfrm>
        </p:grpSpPr>
        <p:grpSp>
          <p:nvGrpSpPr>
            <p:cNvPr id="160" name="Group 4"/>
            <p:cNvGrpSpPr/>
            <p:nvPr/>
          </p:nvGrpSpPr>
          <p:grpSpPr>
            <a:xfrm>
              <a:off x="5042160" y="1791360"/>
              <a:ext cx="4471200" cy="5083200"/>
              <a:chOff x="5042160" y="1791360"/>
              <a:chExt cx="4471200" cy="5083200"/>
            </a:xfrm>
          </p:grpSpPr>
          <p:sp>
            <p:nvSpPr>
              <p:cNvPr id="161"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63"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64"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65" name="Diagram 9"/>
          <p:cNvGrpSpPr/>
          <p:nvPr/>
        </p:nvGrpSpPr>
        <p:grpSpPr>
          <a:xfrm>
            <a:off x="985680" y="2111400"/>
            <a:ext cx="3533040" cy="3531240"/>
            <a:chOff x="985680" y="2111400"/>
            <a:chExt cx="3533040" cy="3531240"/>
          </a:xfrm>
        </p:grpSpPr>
        <p:sp>
          <p:nvSpPr>
            <p:cNvPr id="166" name="_s2052"/>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7" name="_s2053"/>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8" name="_s2054"/>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9" name="_s2055"/>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70" name="_s2056"/>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71" name="_s2057"/>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_s2058"/>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_s2059"/>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74"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D422D25F-9790-41F1-A66A-2F262A8D392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77" name="PlaceHolder 2"/>
          <p:cNvSpPr>
            <a:spLocks noGrp="1"/>
          </p:cNvSpPr>
          <p:nvPr>
            <p:ph/>
          </p:nvPr>
        </p:nvSpPr>
        <p:spPr>
          <a:xfrm>
            <a:off x="228600" y="2133360"/>
            <a:ext cx="548640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3rd &amp; 4th phrase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Review and reflection at the end of the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Preparation for a new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dominant lifestyle characteristic of the  home</a:t>
            </a:r>
            <a:endParaRPr b="0" lang="en-US" sz="3600" spc="-1" strike="noStrike">
              <a:solidFill>
                <a:srgbClr val="000000"/>
              </a:solidFill>
              <a:latin typeface="Humanst521 BT"/>
            </a:endParaRPr>
          </a:p>
        </p:txBody>
      </p:sp>
      <p:grpSp>
        <p:nvGrpSpPr>
          <p:cNvPr id="178" name="Group 4"/>
          <p:cNvGrpSpPr/>
          <p:nvPr/>
        </p:nvGrpSpPr>
        <p:grpSpPr>
          <a:xfrm>
            <a:off x="5042160" y="1791360"/>
            <a:ext cx="4471200" cy="5083200"/>
            <a:chOff x="5042160" y="1791360"/>
            <a:chExt cx="4471200" cy="5083200"/>
          </a:xfrm>
        </p:grpSpPr>
        <p:grpSp>
          <p:nvGrpSpPr>
            <p:cNvPr id="179" name="Group 5"/>
            <p:cNvGrpSpPr/>
            <p:nvPr/>
          </p:nvGrpSpPr>
          <p:grpSpPr>
            <a:xfrm>
              <a:off x="5042160" y="1791360"/>
              <a:ext cx="4471200" cy="5083200"/>
              <a:chOff x="5042160" y="1791360"/>
              <a:chExt cx="4471200" cy="5083200"/>
            </a:xfrm>
          </p:grpSpPr>
          <p:sp>
            <p:nvSpPr>
              <p:cNvPr id="180"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82"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83" name="Freeform 9"/>
          <p:cNvSpPr/>
          <p:nvPr/>
        </p:nvSpPr>
        <p:spPr>
          <a:xfrm>
            <a:off x="5543640" y="3422520"/>
            <a:ext cx="3116160" cy="1649520"/>
          </a:xfrm>
          <a:custGeom>
            <a:avLst/>
            <a:gdLst>
              <a:gd name="textAreaLeft" fmla="*/ 0 w 3116160"/>
              <a:gd name="textAreaRight" fmla="*/ 3116520 w 3116160"/>
              <a:gd name="textAreaTop" fmla="*/ 0 h 1649520"/>
              <a:gd name="textAreaBottom" fmla="*/ 1649880 h 1649520"/>
            </a:gdLst>
            <a:ahLst/>
            <a:rect l="textAreaLeft" t="textAreaTop" r="textAreaRight" b="textAreaBottom"/>
            <a:pathLst>
              <a:path w="1963" h="1039">
                <a:moveTo>
                  <a:pt x="985" y="45"/>
                </a:moveTo>
                <a:cubicBezTo>
                  <a:pt x="1124" y="69"/>
                  <a:pt x="1687" y="96"/>
                  <a:pt x="1825" y="184"/>
                </a:cubicBezTo>
                <a:cubicBezTo>
                  <a:pt x="1963" y="272"/>
                  <a:pt x="1879" y="474"/>
                  <a:pt x="1812" y="570"/>
                </a:cubicBezTo>
                <a:cubicBezTo>
                  <a:pt x="1745" y="666"/>
                  <a:pt x="1693" y="697"/>
                  <a:pt x="1424" y="758"/>
                </a:cubicBezTo>
                <a:cubicBezTo>
                  <a:pt x="1155" y="819"/>
                  <a:pt x="400" y="1039"/>
                  <a:pt x="200" y="937"/>
                </a:cubicBezTo>
                <a:cubicBezTo>
                  <a:pt x="0" y="835"/>
                  <a:pt x="108" y="292"/>
                  <a:pt x="222" y="146"/>
                </a:cubicBezTo>
                <a:cubicBezTo>
                  <a:pt x="336" y="0"/>
                  <a:pt x="745" y="79"/>
                  <a:pt x="882"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1" presetSubtype="1">
                                  <p:stCondLst>
                                    <p:cond delay="1000"/>
                                  </p:stCondLst>
                                  <p:childTnLst>
                                    <p:set>
                                      <p:cBhvr>
                                        <p:cTn id="20" dur="1" fill="hold">
                                          <p:stCondLst>
                                            <p:cond delay="0"/>
                                          </p:stCondLst>
                                        </p:cTn>
                                        <p:tgtEl>
                                          <p:spTgt spid="183"/>
                                        </p:tgtEl>
                                        <p:attrNameLst>
                                          <p:attrName>style.visibility</p:attrName>
                                        </p:attrNameLst>
                                      </p:cBhvr>
                                      <p:to>
                                        <p:strVal val="visible"/>
                                      </p:to>
                                    </p:set>
                                    <p:animEffect filter="wheel(1)" transition="in">
                                      <p:cBhvr additive="repl">
                                        <p:cTn id="21"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9B47CF48-F876-41F2-A88F-940634A01DC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86" name="Group 3"/>
          <p:cNvGrpSpPr/>
          <p:nvPr/>
        </p:nvGrpSpPr>
        <p:grpSpPr>
          <a:xfrm>
            <a:off x="5042160" y="1791360"/>
            <a:ext cx="4471200" cy="5083200"/>
            <a:chOff x="5042160" y="1791360"/>
            <a:chExt cx="4471200" cy="5083200"/>
          </a:xfrm>
        </p:grpSpPr>
        <p:grpSp>
          <p:nvGrpSpPr>
            <p:cNvPr id="187" name="Group 4"/>
            <p:cNvGrpSpPr/>
            <p:nvPr/>
          </p:nvGrpSpPr>
          <p:grpSpPr>
            <a:xfrm>
              <a:off x="5042160" y="1791360"/>
              <a:ext cx="4471200" cy="5083200"/>
              <a:chOff x="5042160" y="1791360"/>
              <a:chExt cx="4471200" cy="5083200"/>
            </a:xfrm>
          </p:grpSpPr>
          <p:sp>
            <p:nvSpPr>
              <p:cNvPr id="18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90"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91"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92" name="Diagram 9"/>
          <p:cNvGrpSpPr/>
          <p:nvPr/>
        </p:nvGrpSpPr>
        <p:grpSpPr>
          <a:xfrm>
            <a:off x="985680" y="2111400"/>
            <a:ext cx="3533040" cy="3531240"/>
            <a:chOff x="985680" y="2111400"/>
            <a:chExt cx="3533040" cy="3531240"/>
          </a:xfrm>
        </p:grpSpPr>
        <p:sp>
          <p:nvSpPr>
            <p:cNvPr id="193" name="_s3076"/>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4" name="_s3077"/>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5" name="_s3078"/>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6" name="_s3079"/>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7" name="_s3080"/>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98" name="_s3081"/>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9" name="_s3082"/>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0" name="_s3083"/>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01"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1B6096E-53D2-4558-92C5-ED0233BAF35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04" name="PlaceHolder 2"/>
          <p:cNvSpPr>
            <a:spLocks noGrp="1"/>
          </p:cNvSpPr>
          <p:nvPr>
            <p:ph/>
          </p:nvPr>
        </p:nvSpPr>
        <p:spPr>
          <a:xfrm>
            <a:off x="304920" y="2057040"/>
            <a:ext cx="541008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Constant exposur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Like a “What Would Jesus Do?” bracelet – a reminder</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hand – what YOU see</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forehead – what OTHERS see</a:t>
            </a:r>
            <a:endParaRPr b="0" lang="en-US" sz="3600" spc="-1" strike="noStrike">
              <a:solidFill>
                <a:srgbClr val="000000"/>
              </a:solidFill>
              <a:latin typeface="Humanst521 BT"/>
            </a:endParaRPr>
          </a:p>
        </p:txBody>
      </p:sp>
      <p:grpSp>
        <p:nvGrpSpPr>
          <p:cNvPr id="205" name="Group 4"/>
          <p:cNvGrpSpPr/>
          <p:nvPr/>
        </p:nvGrpSpPr>
        <p:grpSpPr>
          <a:xfrm>
            <a:off x="4723920" y="1767960"/>
            <a:ext cx="4810680" cy="5402880"/>
            <a:chOff x="4723920" y="1767960"/>
            <a:chExt cx="4810680" cy="5402880"/>
          </a:xfrm>
        </p:grpSpPr>
        <p:grpSp>
          <p:nvGrpSpPr>
            <p:cNvPr id="206" name="Group 5"/>
            <p:cNvGrpSpPr/>
            <p:nvPr/>
          </p:nvGrpSpPr>
          <p:grpSpPr>
            <a:xfrm>
              <a:off x="4723920" y="1767960"/>
              <a:ext cx="4810680" cy="5402880"/>
              <a:chOff x="4723920" y="1767960"/>
              <a:chExt cx="4810680" cy="5402880"/>
            </a:xfrm>
          </p:grpSpPr>
          <p:sp>
            <p:nvSpPr>
              <p:cNvPr id="207" name="Freeform 6"/>
              <p:cNvSpPr/>
              <p:nvPr/>
            </p:nvSpPr>
            <p:spPr>
              <a:xfrm rot="595800">
                <a:off x="5105160" y="2081160"/>
                <a:ext cx="4047480" cy="4776480"/>
              </a:xfrm>
              <a:custGeom>
                <a:avLst/>
                <a:gdLst>
                  <a:gd name="textAreaLeft" fmla="*/ 0 w 4047480"/>
                  <a:gd name="textAreaRight" fmla="*/ 4047840 w 4047480"/>
                  <a:gd name="textAreaTop" fmla="*/ 0 h 4776480"/>
                  <a:gd name="textAreaBottom" fmla="*/ 4776840 h 477648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8" name="Freeform 7"/>
              <p:cNvSpPr/>
              <p:nvPr/>
            </p:nvSpPr>
            <p:spPr>
              <a:xfrm rot="595800">
                <a:off x="5146920" y="2170800"/>
                <a:ext cx="3916440" cy="4605120"/>
              </a:xfrm>
              <a:custGeom>
                <a:avLst/>
                <a:gdLst>
                  <a:gd name="textAreaLeft" fmla="*/ 0 w 3916440"/>
                  <a:gd name="textAreaRight" fmla="*/ 3916800 w 3916440"/>
                  <a:gd name="textAreaTop" fmla="*/ 0 h 4605120"/>
                  <a:gd name="textAreaBottom" fmla="*/ 4605480 h 4605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09" name="Text Box 8"/>
            <p:cNvSpPr/>
            <p:nvPr/>
          </p:nvSpPr>
          <p:spPr>
            <a:xfrm>
              <a:off x="5610960" y="2487240"/>
              <a:ext cx="3041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Bind them as a sign on your hand, and they shall be as frontlets between your eyes.</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8</a:t>
              </a:r>
              <a:endParaRPr b="0" lang="en-US" sz="2800" spc="-1" strike="noStrike">
                <a:solidFill>
                  <a:srgbClr val="000000"/>
                </a:solidFill>
                <a:latin typeface="Humanst521 BT"/>
              </a:endParaRPr>
            </a:p>
          </p:txBody>
        </p:sp>
      </p:gr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48B7DEB6-0C78-4573-8DB0-FA952C98CF5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12" name="Group 3"/>
          <p:cNvGrpSpPr/>
          <p:nvPr/>
        </p:nvGrpSpPr>
        <p:grpSpPr>
          <a:xfrm>
            <a:off x="5042160" y="1791360"/>
            <a:ext cx="4471200" cy="5083200"/>
            <a:chOff x="5042160" y="1791360"/>
            <a:chExt cx="4471200" cy="5083200"/>
          </a:xfrm>
        </p:grpSpPr>
        <p:grpSp>
          <p:nvGrpSpPr>
            <p:cNvPr id="213" name="Group 4"/>
            <p:cNvGrpSpPr/>
            <p:nvPr/>
          </p:nvGrpSpPr>
          <p:grpSpPr>
            <a:xfrm>
              <a:off x="5042160" y="1791360"/>
              <a:ext cx="4471200" cy="5083200"/>
              <a:chOff x="5042160" y="1791360"/>
              <a:chExt cx="4471200" cy="5083200"/>
            </a:xfrm>
          </p:grpSpPr>
          <p:sp>
            <p:nvSpPr>
              <p:cNvPr id="21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1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Bind them as a sign on your hand, and they shall be as frontlets between your ey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8</a:t>
              </a:r>
              <a:endParaRPr b="0" lang="en-US" sz="2600" spc="-1" strike="noStrike">
                <a:solidFill>
                  <a:srgbClr val="000000"/>
                </a:solidFill>
                <a:latin typeface="Humanst521 BT"/>
              </a:endParaRPr>
            </a:p>
          </p:txBody>
        </p:sp>
      </p:grpSp>
      <p:sp>
        <p:nvSpPr>
          <p:cNvPr id="217"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18" name="Diagram 9"/>
          <p:cNvGrpSpPr/>
          <p:nvPr/>
        </p:nvGrpSpPr>
        <p:grpSpPr>
          <a:xfrm>
            <a:off x="985680" y="2111400"/>
            <a:ext cx="3533040" cy="3531240"/>
            <a:chOff x="985680" y="2111400"/>
            <a:chExt cx="3533040" cy="3531240"/>
          </a:xfrm>
        </p:grpSpPr>
        <p:sp>
          <p:nvSpPr>
            <p:cNvPr id="219" name="_s4100"/>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0" name="_s4101"/>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1" name="_s4102"/>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2" name="_s4103"/>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3" name="_s4104"/>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24" name="_s4105"/>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25" name="_s4106"/>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6" name="_s4107"/>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27"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D3ADB8F-EA55-4A77-BB2C-339B8C89310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30" name="PlaceHolder 2"/>
          <p:cNvSpPr>
            <a:spLocks noGrp="1"/>
          </p:cNvSpPr>
          <p:nvPr>
            <p:ph/>
          </p:nvPr>
        </p:nvSpPr>
        <p:spPr>
          <a:xfrm>
            <a:off x="304560" y="2285640"/>
            <a:ext cx="5181480" cy="3924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Memory trigger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last thing you see before you leave </a:t>
            </a:r>
            <a:br>
              <a:rPr sz="3600"/>
            </a:br>
            <a:r>
              <a:rPr b="0" lang="en-US" sz="3600" spc="-1" strike="noStrike">
                <a:solidFill>
                  <a:srgbClr val="000000"/>
                </a:solidFill>
                <a:latin typeface="Humanst521 BT"/>
              </a:rPr>
              <a:t>your hou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first thing others see when entering your home</a:t>
            </a:r>
            <a:endParaRPr b="0" lang="en-US" sz="3600" spc="-1" strike="noStrike">
              <a:solidFill>
                <a:srgbClr val="000000"/>
              </a:solidFill>
              <a:latin typeface="Humanst521 BT"/>
            </a:endParaRPr>
          </a:p>
        </p:txBody>
      </p:sp>
      <p:grpSp>
        <p:nvGrpSpPr>
          <p:cNvPr id="231" name="Group 4"/>
          <p:cNvGrpSpPr/>
          <p:nvPr/>
        </p:nvGrpSpPr>
        <p:grpSpPr>
          <a:xfrm>
            <a:off x="5042160" y="1791360"/>
            <a:ext cx="4471200" cy="5083200"/>
            <a:chOff x="5042160" y="1791360"/>
            <a:chExt cx="4471200" cy="5083200"/>
          </a:xfrm>
        </p:grpSpPr>
        <p:grpSp>
          <p:nvGrpSpPr>
            <p:cNvPr id="232" name="Group 5"/>
            <p:cNvGrpSpPr/>
            <p:nvPr/>
          </p:nvGrpSpPr>
          <p:grpSpPr>
            <a:xfrm>
              <a:off x="5042160" y="1791360"/>
              <a:ext cx="4471200" cy="5083200"/>
              <a:chOff x="5042160" y="1791360"/>
              <a:chExt cx="4471200" cy="5083200"/>
            </a:xfrm>
          </p:grpSpPr>
          <p:sp>
            <p:nvSpPr>
              <p:cNvPr id="23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5" name="Text Box 8"/>
            <p:cNvSpPr/>
            <p:nvPr/>
          </p:nvSpPr>
          <p:spPr>
            <a:xfrm>
              <a:off x="5870520" y="246420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br>
                <a:rPr sz="2600"/>
              </a:b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43D2BA0A-AC21-4207-9728-D08C09BAE75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38" name="Group 3"/>
          <p:cNvGrpSpPr/>
          <p:nvPr/>
        </p:nvGrpSpPr>
        <p:grpSpPr>
          <a:xfrm>
            <a:off x="5032800" y="1767600"/>
            <a:ext cx="4471200" cy="5082840"/>
            <a:chOff x="5032800" y="1767600"/>
            <a:chExt cx="4471200" cy="5082840"/>
          </a:xfrm>
        </p:grpSpPr>
        <p:grpSp>
          <p:nvGrpSpPr>
            <p:cNvPr id="239" name="Group 4"/>
            <p:cNvGrpSpPr/>
            <p:nvPr/>
          </p:nvGrpSpPr>
          <p:grpSpPr>
            <a:xfrm>
              <a:off x="5032800" y="1767600"/>
              <a:ext cx="4471200" cy="5082840"/>
              <a:chOff x="5032800" y="1767600"/>
              <a:chExt cx="4471200" cy="5082840"/>
            </a:xfrm>
          </p:grpSpPr>
          <p:sp>
            <p:nvSpPr>
              <p:cNvPr id="240" name="Freeform 5"/>
              <p:cNvSpPr/>
              <p:nvPr/>
            </p:nvSpPr>
            <p:spPr>
              <a:xfrm rot="595800">
                <a:off x="5392800" y="2057040"/>
                <a:ext cx="3750840" cy="4503600"/>
              </a:xfrm>
              <a:custGeom>
                <a:avLst/>
                <a:gdLst>
                  <a:gd name="textAreaLeft" fmla="*/ 0 w 3750840"/>
                  <a:gd name="textAreaRight" fmla="*/ 3751200 w 375084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1" name="Freeform 6"/>
              <p:cNvSpPr/>
              <p:nvPr/>
            </p:nvSpPr>
            <p:spPr>
              <a:xfrm rot="595800">
                <a:off x="5430960" y="2141640"/>
                <a:ext cx="3629160" cy="4341600"/>
              </a:xfrm>
              <a:custGeom>
                <a:avLst/>
                <a:gdLst>
                  <a:gd name="textAreaLeft" fmla="*/ 0 w 3629160"/>
                  <a:gd name="textAreaRight" fmla="*/ 3629520 w 362916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2" name="Text Box 7"/>
            <p:cNvSpPr/>
            <p:nvPr/>
          </p:nvSpPr>
          <p:spPr>
            <a:xfrm>
              <a:off x="5861160" y="244044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endParaRPr b="0" lang="en-US" sz="26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
        <p:nvSpPr>
          <p:cNvPr id="243"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44" name="Diagram 9"/>
          <p:cNvGrpSpPr/>
          <p:nvPr/>
        </p:nvGrpSpPr>
        <p:grpSpPr>
          <a:xfrm>
            <a:off x="985680" y="2111400"/>
            <a:ext cx="3533040" cy="3531240"/>
            <a:chOff x="985680" y="2111400"/>
            <a:chExt cx="3533040" cy="3531240"/>
          </a:xfrm>
        </p:grpSpPr>
        <p:sp>
          <p:nvSpPr>
            <p:cNvPr id="245" name="_s5124"/>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6" name="_s5125"/>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7" name="_s5126"/>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8" name="_s5127"/>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9" name="_s5128"/>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50" name="_s5129"/>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51" name="_s5130"/>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Memory</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riggers</a:t>
              </a:r>
              <a:endParaRPr b="0" lang="en-US" sz="2000" spc="-1" strike="noStrike">
                <a:solidFill>
                  <a:srgbClr val="000000"/>
                </a:solidFill>
                <a:latin typeface="Humanst521 BT"/>
              </a:endParaRPr>
            </a:p>
          </p:txBody>
        </p:sp>
        <p:sp>
          <p:nvSpPr>
            <p:cNvPr id="252" name="_s5131"/>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53" name="WordArt 19"/>
          <p:cNvSpPr txBox="1"/>
          <p:nvPr/>
        </p:nvSpPr>
        <p:spPr>
          <a:xfrm>
            <a:off x="476280" y="160020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D521E22A-B5F0-4FB6-AD3A-791A1002530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5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6"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1E5CE80-BF8C-4813-9CA8-4CA6595FE9F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uppose…</a:t>
            </a:r>
            <a:endParaRPr b="1" lang="en-US" sz="4000" spc="-1" strike="noStrike">
              <a:solidFill>
                <a:srgbClr val="ffffff"/>
              </a:solidFill>
              <a:latin typeface="Humanst521 BT"/>
            </a:endParaRPr>
          </a:p>
        </p:txBody>
      </p:sp>
      <p:sp>
        <p:nvSpPr>
          <p:cNvPr id="91" name="PlaceHolder 2"/>
          <p:cNvSpPr>
            <a:spLocks noGrp="1"/>
          </p:cNvSpPr>
          <p:nvPr>
            <p:ph/>
          </p:nvPr>
        </p:nvSpPr>
        <p:spPr>
          <a:xfrm>
            <a:off x="304920" y="1631880"/>
            <a:ext cx="42955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are a young parent…</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have 3 children:  </a:t>
            </a:r>
            <a:br>
              <a:rPr sz="2800"/>
            </a:br>
            <a:r>
              <a:rPr b="0" lang="en-US" sz="2800" spc="-1" strike="noStrike">
                <a:solidFill>
                  <a:srgbClr val="000000"/>
                </a:solidFill>
                <a:latin typeface="Humanst521 BT"/>
              </a:rPr>
              <a:t>2 boys and a girl, 5 to 9…</a:t>
            </a:r>
            <a:endParaRPr b="0" lang="en-US" sz="2800" spc="-1" strike="noStrike">
              <a:solidFill>
                <a:srgbClr val="000000"/>
              </a:solidFill>
              <a:latin typeface="Humanst521 BT"/>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Now—think 20 years ahead…</a:t>
            </a:r>
            <a:endParaRPr b="0" lang="en-US" sz="2800" spc="-1" strike="noStrike">
              <a:solidFill>
                <a:srgbClr val="000000"/>
              </a:solidFill>
              <a:latin typeface="Humanst521 BT"/>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 children are 25 </a:t>
            </a:r>
            <a:br>
              <a:rPr sz="2800"/>
            </a:br>
            <a:r>
              <a:rPr b="0" lang="en-US" sz="2800" spc="-1" strike="noStrike">
                <a:solidFill>
                  <a:srgbClr val="000000"/>
                </a:solidFill>
                <a:latin typeface="Humanst521 BT"/>
              </a:rPr>
              <a:t>to 29</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2" name="AutoShape 9"/>
          <p:cNvSpPr/>
          <p:nvPr/>
        </p:nvSpPr>
        <p:spPr>
          <a:xfrm>
            <a:off x="5167440" y="2565360"/>
            <a:ext cx="3443040" cy="2984760"/>
          </a:xfrm>
          <a:prstGeom prst="roundRect">
            <a:avLst>
              <a:gd name="adj" fmla="val 8472"/>
            </a:avLst>
          </a:prstGeom>
          <a:solidFill>
            <a:srgbClr val="cc99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What will you want to be able to say about your children then?</a:t>
            </a:r>
            <a:endParaRPr b="0" lang="en-US" sz="3600" spc="-1" strike="noStrike">
              <a:solidFill>
                <a:srgbClr val="000000"/>
              </a:solidFill>
              <a:latin typeface="Humanst521 BT"/>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3D5F151B-7498-402C-B5B1-F2530A04538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Now Suppose…</a:t>
            </a:r>
            <a:endParaRPr b="1" lang="en-US" sz="4000" spc="-1" strike="noStrike">
              <a:solidFill>
                <a:srgbClr val="ffffff"/>
              </a:solidFill>
              <a:latin typeface="Humanst521 BT"/>
            </a:endParaRPr>
          </a:p>
        </p:txBody>
      </p:sp>
      <p:sp>
        <p:nvSpPr>
          <p:cNvPr id="95" name="PlaceHolder 2"/>
          <p:cNvSpPr>
            <a:spLocks noGrp="1"/>
          </p:cNvSpPr>
          <p:nvPr>
            <p:ph/>
          </p:nvPr>
        </p:nvSpPr>
        <p:spPr>
          <a:xfrm>
            <a:off x="304920" y="1631880"/>
            <a:ext cx="59371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t’s today again…</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e still the young paren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6" name="AutoShape 5"/>
          <p:cNvSpPr/>
          <p:nvPr/>
        </p:nvSpPr>
        <p:spPr>
          <a:xfrm>
            <a:off x="1095480" y="3086280"/>
            <a:ext cx="6976800" cy="2264760"/>
          </a:xfrm>
          <a:prstGeom prst="roundRect">
            <a:avLst>
              <a:gd name="adj" fmla="val 16667"/>
            </a:avLst>
          </a:prstGeom>
          <a:solidFill>
            <a:srgbClr val="cc99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Humanst521 BT"/>
              </a:rPr>
              <a:t>What can you do NOW that will have the greatest success in the areas you have listed as top priority?</a:t>
            </a:r>
            <a:r>
              <a:rPr b="0" lang="en-US" sz="3200" spc="-1" strike="noStrike">
                <a:solidFill>
                  <a:srgbClr val="ffffff"/>
                </a:solidFill>
                <a:latin typeface="Humanst521 BT"/>
              </a:rPr>
              <a:t> </a:t>
            </a:r>
            <a:endParaRPr b="0" lang="en-US" sz="3200" spc="-1" strike="noStrike">
              <a:solidFill>
                <a:srgbClr val="000000"/>
              </a:solidFill>
              <a:latin typeface="Humanst521 BT"/>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D0ED32C-EBC5-497D-A48F-7E817F3F396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The </a:t>
            </a:r>
            <a:r>
              <a:rPr b="1" lang="en-US" sz="3600" spc="-1" strike="noStrike" u="sng">
                <a:solidFill>
                  <a:srgbClr val="ffffff"/>
                </a:solidFill>
                <a:uFillTx/>
                <a:latin typeface="Humanst521 BT"/>
              </a:rPr>
              <a:t>Object</a:t>
            </a:r>
            <a:r>
              <a:rPr b="1" lang="en-US" sz="3600" spc="-1" strike="noStrike">
                <a:solidFill>
                  <a:srgbClr val="ffffff"/>
                </a:solidFill>
                <a:latin typeface="Humanst521 BT"/>
              </a:rPr>
              <a:t> of Family Life…</a:t>
            </a:r>
            <a:endParaRPr b="1" lang="en-US" sz="3600" spc="-1" strike="noStrike">
              <a:solidFill>
                <a:srgbClr val="ffffff"/>
              </a:solidFill>
              <a:latin typeface="Humanst521 BT"/>
            </a:endParaRPr>
          </a:p>
        </p:txBody>
      </p:sp>
      <p:grpSp>
        <p:nvGrpSpPr>
          <p:cNvPr id="99" name="Group 3"/>
          <p:cNvGrpSpPr/>
          <p:nvPr/>
        </p:nvGrpSpPr>
        <p:grpSpPr>
          <a:xfrm>
            <a:off x="4594320" y="1824840"/>
            <a:ext cx="4688640" cy="5121000"/>
            <a:chOff x="4594320" y="1824840"/>
            <a:chExt cx="4688640" cy="5121000"/>
          </a:xfrm>
        </p:grpSpPr>
        <p:grpSp>
          <p:nvGrpSpPr>
            <p:cNvPr id="100" name="Group 4"/>
            <p:cNvGrpSpPr/>
            <p:nvPr/>
          </p:nvGrpSpPr>
          <p:grpSpPr>
            <a:xfrm>
              <a:off x="4594320" y="1824840"/>
              <a:ext cx="4688640" cy="5121000"/>
              <a:chOff x="4594320" y="1824840"/>
              <a:chExt cx="4688640" cy="5121000"/>
            </a:xfrm>
          </p:grpSpPr>
          <p:sp>
            <p:nvSpPr>
              <p:cNvPr id="101" name="Freeform 5"/>
              <p:cNvSpPr/>
              <p:nvPr/>
            </p:nvSpPr>
            <p:spPr>
              <a:xfrm rot="595800">
                <a:off x="4952520" y="2133360"/>
                <a:ext cx="3971520" cy="4503600"/>
              </a:xfrm>
              <a:custGeom>
                <a:avLst/>
                <a:gdLst>
                  <a:gd name="textAreaLeft" fmla="*/ 0 w 3971520"/>
                  <a:gd name="textAreaRight" fmla="*/ 3971880 w 397152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2" name="Freeform 6"/>
              <p:cNvSpPr/>
              <p:nvPr/>
            </p:nvSpPr>
            <p:spPr>
              <a:xfrm rot="595800">
                <a:off x="4993560" y="2218320"/>
                <a:ext cx="3842640" cy="4341600"/>
              </a:xfrm>
              <a:custGeom>
                <a:avLst/>
                <a:gdLst>
                  <a:gd name="textAreaLeft" fmla="*/ 0 w 3842640"/>
                  <a:gd name="textAreaRight" fmla="*/ 3843000 w 384264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03" name="Text Box 7"/>
            <p:cNvSpPr/>
            <p:nvPr/>
          </p:nvSpPr>
          <p:spPr>
            <a:xfrm>
              <a:off x="5448600" y="2516760"/>
              <a:ext cx="29840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Hear, O Israel: The LORD our God, the LORD is one!  You shall love the LORD your God with all your heart, with all your soul, with all your strength. </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        —</a:t>
              </a:r>
              <a:r>
                <a:rPr b="0" i="1" lang="en-US" sz="2400" spc="-1" strike="noStrike">
                  <a:solidFill>
                    <a:srgbClr val="000000"/>
                  </a:solidFill>
                  <a:latin typeface="Humanst521 BT"/>
                </a:rPr>
                <a:t> </a:t>
              </a:r>
              <a:r>
                <a:rPr b="0" i="1" lang="en-US" sz="2400" spc="-1" strike="noStrike">
                  <a:solidFill>
                    <a:srgbClr val="000000"/>
                  </a:solidFill>
                  <a:latin typeface="Humanst521 BT"/>
                </a:rPr>
                <a:t>Deut. 6:4,5</a:t>
              </a:r>
              <a:endParaRPr b="0" lang="en-US" sz="2400" spc="-1" strike="noStrike">
                <a:solidFill>
                  <a:srgbClr val="000000"/>
                </a:solidFill>
                <a:latin typeface="Humanst521 BT"/>
              </a:endParaRPr>
            </a:p>
          </p:txBody>
        </p:sp>
      </p:grpSp>
      <p:sp>
        <p:nvSpPr>
          <p:cNvPr id="104" name="PlaceHolder 2"/>
          <p:cNvSpPr>
            <a:spLocks noGrp="1"/>
          </p:cNvSpPr>
          <p:nvPr>
            <p:ph/>
          </p:nvPr>
        </p:nvSpPr>
        <p:spPr>
          <a:xfrm>
            <a:off x="536040" y="2352600"/>
            <a:ext cx="4451400" cy="364176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is passage is…</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Sh’ma – the central statement of the Jewish faith.</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s familiar to Jews </a:t>
            </a:r>
            <a:br>
              <a:rPr sz="3600"/>
            </a:br>
            <a:r>
              <a:rPr b="0" lang="en-US" sz="3600" spc="-1" strike="noStrike">
                <a:solidFill>
                  <a:srgbClr val="000000"/>
                </a:solidFill>
                <a:latin typeface="Humanst521 BT"/>
              </a:rPr>
              <a:t>as John 3:16 is to Christians.</a:t>
            </a:r>
            <a:endParaRPr b="0" lang="en-US" sz="3600" spc="-1" strike="noStrike">
              <a:solidFill>
                <a:srgbClr val="000000"/>
              </a:solidFill>
              <a:latin typeface="Humanst521 BT"/>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363CE444-562A-406B-B794-B2A6EAAF879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t>
            </a:r>
            <a:r>
              <a:rPr b="1" lang="en-US" sz="3800" spc="-1" strike="noStrike" u="sng">
                <a:solidFill>
                  <a:srgbClr val="ffffff"/>
                </a:solidFill>
                <a:uFillTx/>
                <a:latin typeface="Humanst521 BT"/>
              </a:rPr>
              <a:t>Object</a:t>
            </a:r>
            <a:r>
              <a:rPr b="1" lang="en-US" sz="3800" spc="-1" strike="noStrike">
                <a:solidFill>
                  <a:srgbClr val="ffffff"/>
                </a:solidFill>
                <a:latin typeface="Humanst521 BT"/>
              </a:rPr>
              <a:t>: Heart-Set</a:t>
            </a:r>
            <a:endParaRPr b="1" lang="en-US" sz="3800" spc="-1" strike="noStrike">
              <a:solidFill>
                <a:srgbClr val="ffffff"/>
              </a:solidFill>
              <a:latin typeface="Humanst521 BT"/>
            </a:endParaRPr>
          </a:p>
        </p:txBody>
      </p:sp>
      <p:grpSp>
        <p:nvGrpSpPr>
          <p:cNvPr id="107" name="Group 3"/>
          <p:cNvGrpSpPr/>
          <p:nvPr/>
        </p:nvGrpSpPr>
        <p:grpSpPr>
          <a:xfrm>
            <a:off x="4747680" y="1765800"/>
            <a:ext cx="4763520" cy="5134320"/>
            <a:chOff x="4747680" y="1765800"/>
            <a:chExt cx="4763520" cy="5134320"/>
          </a:xfrm>
        </p:grpSpPr>
        <p:grpSp>
          <p:nvGrpSpPr>
            <p:cNvPr id="108" name="Group 4"/>
            <p:cNvGrpSpPr/>
            <p:nvPr/>
          </p:nvGrpSpPr>
          <p:grpSpPr>
            <a:xfrm>
              <a:off x="4747680" y="1765800"/>
              <a:ext cx="4763520" cy="5134320"/>
              <a:chOff x="4747680" y="1765800"/>
              <a:chExt cx="4763520" cy="5134320"/>
            </a:xfrm>
          </p:grpSpPr>
          <p:sp>
            <p:nvSpPr>
              <p:cNvPr id="109" name="Freeform 5"/>
              <p:cNvSpPr/>
              <p:nvPr/>
            </p:nvSpPr>
            <p:spPr>
              <a:xfrm rot="595800">
                <a:off x="5105520" y="2080800"/>
                <a:ext cx="4047480" cy="4503960"/>
              </a:xfrm>
              <a:custGeom>
                <a:avLst/>
                <a:gdLst>
                  <a:gd name="textAreaLeft" fmla="*/ 0 w 4047480"/>
                  <a:gd name="textAreaRight" fmla="*/ 4047840 w 404748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0" name="Freeform 6"/>
              <p:cNvSpPr/>
              <p:nvPr/>
            </p:nvSpPr>
            <p:spPr>
              <a:xfrm rot="595800">
                <a:off x="5146920" y="2165400"/>
                <a:ext cx="3916440" cy="4341960"/>
              </a:xfrm>
              <a:custGeom>
                <a:avLst/>
                <a:gdLst>
                  <a:gd name="textAreaLeft" fmla="*/ 0 w 3916440"/>
                  <a:gd name="textAreaRight" fmla="*/ 3916800 w 391644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11" name="Text Box 7"/>
            <p:cNvSpPr/>
            <p:nvPr/>
          </p:nvSpPr>
          <p:spPr>
            <a:xfrm>
              <a:off x="5610960" y="2464200"/>
              <a:ext cx="304128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these words which I command you today shall be in your heart …</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12" name="Oval 8"/>
          <p:cNvSpPr/>
          <p:nvPr/>
        </p:nvSpPr>
        <p:spPr>
          <a:xfrm>
            <a:off x="1371600" y="2438280"/>
            <a:ext cx="2743200" cy="2667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Love God </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with all your</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heart.</a:t>
            </a:r>
            <a:endParaRPr b="0" lang="en-US" sz="3200" spc="-1" strike="noStrike">
              <a:solidFill>
                <a:srgbClr val="000000"/>
              </a:solidFill>
              <a:latin typeface="Humanst521 BT"/>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F5A8D8E-C4AD-41D9-9292-C7D9611A249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sp>
        <p:nvSpPr>
          <p:cNvPr id="115" name="PlaceHolder 2"/>
          <p:cNvSpPr>
            <a:spLocks noGrp="1"/>
          </p:cNvSpPr>
          <p:nvPr>
            <p:ph/>
          </p:nvPr>
        </p:nvSpPr>
        <p:spPr>
          <a:xfrm>
            <a:off x="304920" y="2285640"/>
            <a:ext cx="5029200" cy="3352680"/>
          </a:xfrm>
          <a:prstGeom prst="rect">
            <a:avLst/>
          </a:prstGeom>
          <a:noFill/>
          <a:ln w="0">
            <a:noFill/>
          </a:ln>
        </p:spPr>
        <p:txBody>
          <a:bodyPr anchor="t">
            <a:normAutofit fontScale="9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e will achieve the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object</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hen we surround children</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 </a:t>
            </a:r>
            <a:r>
              <a:rPr b="0" lang="en-US" sz="3600" spc="-1" strike="noStrike">
                <a:solidFill>
                  <a:srgbClr val="000000"/>
                </a:solidFill>
                <a:latin typeface="Humanst521 BT"/>
              </a:rPr>
              <a:t>with the righ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environment</a:t>
            </a:r>
            <a:endParaRPr b="0" lang="en-US" sz="3600" spc="-1" strike="noStrike">
              <a:solidFill>
                <a:srgbClr val="000000"/>
              </a:solidFill>
              <a:latin typeface="Humanst521 BT"/>
            </a:endParaRPr>
          </a:p>
        </p:txBody>
      </p:sp>
      <p:grpSp>
        <p:nvGrpSpPr>
          <p:cNvPr id="116" name="Group 3"/>
          <p:cNvGrpSpPr/>
          <p:nvPr/>
        </p:nvGrpSpPr>
        <p:grpSpPr>
          <a:xfrm>
            <a:off x="5042160" y="1791360"/>
            <a:ext cx="4471200" cy="5083200"/>
            <a:chOff x="5042160" y="1791360"/>
            <a:chExt cx="4471200" cy="5083200"/>
          </a:xfrm>
        </p:grpSpPr>
        <p:grpSp>
          <p:nvGrpSpPr>
            <p:cNvPr id="117" name="Group 4"/>
            <p:cNvGrpSpPr/>
            <p:nvPr/>
          </p:nvGrpSpPr>
          <p:grpSpPr>
            <a:xfrm>
              <a:off x="5042160" y="1791360"/>
              <a:ext cx="4471200" cy="5083200"/>
              <a:chOff x="5042160" y="1791360"/>
              <a:chExt cx="4471200" cy="5083200"/>
            </a:xfrm>
          </p:grpSpPr>
          <p:sp>
            <p:nvSpPr>
              <p:cNvPr id="11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0" name="Text Box 7"/>
            <p:cNvSpPr/>
            <p:nvPr/>
          </p:nvSpPr>
          <p:spPr>
            <a:xfrm>
              <a:off x="5870520" y="2464200"/>
              <a:ext cx="2818440" cy="317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 shall teach them diligently to your children …</a:t>
              </a:r>
              <a:endParaRPr b="0" lang="en-US" sz="32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9FF305A-E4C0-443A-92D6-9EDF1C19E14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grpSp>
        <p:nvGrpSpPr>
          <p:cNvPr id="123" name="Group 3"/>
          <p:cNvGrpSpPr/>
          <p:nvPr/>
        </p:nvGrpSpPr>
        <p:grpSpPr>
          <a:xfrm>
            <a:off x="5042160" y="1791360"/>
            <a:ext cx="4471200" cy="5083200"/>
            <a:chOff x="5042160" y="1791360"/>
            <a:chExt cx="4471200" cy="5083200"/>
          </a:xfrm>
        </p:grpSpPr>
        <p:grpSp>
          <p:nvGrpSpPr>
            <p:cNvPr id="124" name="Group 4"/>
            <p:cNvGrpSpPr/>
            <p:nvPr/>
          </p:nvGrpSpPr>
          <p:grpSpPr>
            <a:xfrm>
              <a:off x="5042160" y="1791360"/>
              <a:ext cx="4471200" cy="5083200"/>
              <a:chOff x="5042160" y="1791360"/>
              <a:chExt cx="4471200" cy="5083200"/>
            </a:xfrm>
          </p:grpSpPr>
          <p:sp>
            <p:nvSpPr>
              <p:cNvPr id="125"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7" name="Text Box 7"/>
            <p:cNvSpPr/>
            <p:nvPr/>
          </p:nvSpPr>
          <p:spPr>
            <a:xfrm>
              <a:off x="5870520" y="2464200"/>
              <a:ext cx="281844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You shall teach them diligently to your children …</a:t>
              </a:r>
              <a:endParaRPr b="0" lang="en-US" sz="28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28"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29" name="Diagram 9"/>
          <p:cNvGrpSpPr/>
          <p:nvPr/>
        </p:nvGrpSpPr>
        <p:grpSpPr>
          <a:xfrm>
            <a:off x="985680" y="2111400"/>
            <a:ext cx="3533040" cy="3531240"/>
            <a:chOff x="985680" y="2111400"/>
            <a:chExt cx="3533040" cy="3531240"/>
          </a:xfrm>
        </p:grpSpPr>
        <p:sp>
          <p:nvSpPr>
            <p:cNvPr id="130" name="_s1028"/>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1" name="_s1029"/>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2" name="_s1030"/>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3" name="_s1031"/>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4" name="_s1032"/>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5" name="_s1033"/>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_s1034"/>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7" name="_s1035"/>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38"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7CF597B-124B-457B-8AA7-E427C2E9FFD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41" name="PlaceHolder 2"/>
          <p:cNvSpPr>
            <a:spLocks noGrp="1"/>
          </p:cNvSpPr>
          <p:nvPr>
            <p:ph/>
          </p:nvPr>
        </p:nvSpPr>
        <p:spPr>
          <a:xfrm>
            <a:off x="30456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1st phra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transmitt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mealtime </a:t>
            </a:r>
            <a:endParaRPr b="0" lang="en-US" sz="3600" spc="-1" strike="noStrike">
              <a:solidFill>
                <a:srgbClr val="000000"/>
              </a:solidFill>
              <a:latin typeface="Humanst521 BT"/>
            </a:endParaRPr>
          </a:p>
        </p:txBody>
      </p:sp>
      <p:grpSp>
        <p:nvGrpSpPr>
          <p:cNvPr id="142" name="Group 3"/>
          <p:cNvGrpSpPr/>
          <p:nvPr/>
        </p:nvGrpSpPr>
        <p:grpSpPr>
          <a:xfrm>
            <a:off x="5042160" y="1791360"/>
            <a:ext cx="4471200" cy="5083200"/>
            <a:chOff x="5042160" y="1791360"/>
            <a:chExt cx="4471200" cy="5083200"/>
          </a:xfrm>
        </p:grpSpPr>
        <p:grpSp>
          <p:nvGrpSpPr>
            <p:cNvPr id="143" name="Group 4"/>
            <p:cNvGrpSpPr/>
            <p:nvPr/>
          </p:nvGrpSpPr>
          <p:grpSpPr>
            <a:xfrm>
              <a:off x="5042160" y="1791360"/>
              <a:ext cx="4471200" cy="5083200"/>
              <a:chOff x="5042160" y="1791360"/>
              <a:chExt cx="4471200" cy="5083200"/>
            </a:xfrm>
          </p:grpSpPr>
          <p:sp>
            <p:nvSpPr>
              <p:cNvPr id="14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4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47" name="Freeform 22"/>
          <p:cNvSpPr/>
          <p:nvPr/>
        </p:nvSpPr>
        <p:spPr>
          <a:xfrm>
            <a:off x="5605560" y="2427120"/>
            <a:ext cx="2870280" cy="990720"/>
          </a:xfrm>
          <a:custGeom>
            <a:avLst/>
            <a:gdLst>
              <a:gd name="textAreaLeft" fmla="*/ 0 w 2870280"/>
              <a:gd name="textAreaRight" fmla="*/ 2870640 w 2870280"/>
              <a:gd name="textAreaTop" fmla="*/ 0 h 990720"/>
              <a:gd name="textAreaBottom" fmla="*/ 991080 h 990720"/>
            </a:gdLst>
            <a:ahLst/>
            <a:rect l="textAreaLeft" t="textAreaTop" r="textAreaRight" b="textAreaBottom"/>
            <a:pathLst>
              <a:path w="1808" h="624">
                <a:moveTo>
                  <a:pt x="906" y="28"/>
                </a:moveTo>
                <a:cubicBezTo>
                  <a:pt x="1033" y="37"/>
                  <a:pt x="1544" y="29"/>
                  <a:pt x="1676" y="85"/>
                </a:cubicBezTo>
                <a:cubicBezTo>
                  <a:pt x="1808" y="141"/>
                  <a:pt x="1789" y="287"/>
                  <a:pt x="1699" y="364"/>
                </a:cubicBezTo>
                <a:cubicBezTo>
                  <a:pt x="1609" y="441"/>
                  <a:pt x="1393" y="517"/>
                  <a:pt x="1134" y="547"/>
                </a:cubicBezTo>
                <a:cubicBezTo>
                  <a:pt x="875" y="577"/>
                  <a:pt x="294" y="624"/>
                  <a:pt x="147" y="547"/>
                </a:cubicBezTo>
                <a:cubicBezTo>
                  <a:pt x="0" y="470"/>
                  <a:pt x="141" y="170"/>
                  <a:pt x="250" y="85"/>
                </a:cubicBezTo>
                <a:cubicBezTo>
                  <a:pt x="359" y="0"/>
                  <a:pt x="688" y="49"/>
                  <a:pt x="803" y="39"/>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1">
                                  <p:stCondLst>
                                    <p:cond delay="1000"/>
                                  </p:stCondLst>
                                  <p:childTnLst>
                                    <p:set>
                                      <p:cBhvr>
                                        <p:cTn id="6" dur="1" fill="hold">
                                          <p:stCondLst>
                                            <p:cond delay="0"/>
                                          </p:stCondLst>
                                        </p:cTn>
                                        <p:tgtEl>
                                          <p:spTgt spid="147"/>
                                        </p:tgtEl>
                                        <p:attrNameLst>
                                          <p:attrName>style.visibility</p:attrName>
                                        </p:attrNameLst>
                                      </p:cBhvr>
                                      <p:to>
                                        <p:strVal val="visible"/>
                                      </p:to>
                                    </p:set>
                                    <p:animEffect filter="wheel(1)" transition="in">
                                      <p:cBhvr additive="repl">
                                        <p:cTn id="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EC4A5FC7-DDF4-4C93-929E-D8EB9DCF769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50" name="PlaceHolder 2"/>
          <p:cNvSpPr>
            <a:spLocks noGrp="1"/>
          </p:cNvSpPr>
          <p:nvPr>
            <p:ph/>
          </p:nvPr>
        </p:nvSpPr>
        <p:spPr>
          <a:xfrm>
            <a:off x="22824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2nd phras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pply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ny time </a:t>
            </a:r>
            <a:endParaRPr b="0" lang="en-US" sz="3600" spc="-1" strike="noStrike">
              <a:solidFill>
                <a:srgbClr val="000000"/>
              </a:solidFill>
              <a:latin typeface="Humanst521 BT"/>
            </a:endParaRPr>
          </a:p>
        </p:txBody>
      </p:sp>
      <p:grpSp>
        <p:nvGrpSpPr>
          <p:cNvPr id="151" name="Group 4"/>
          <p:cNvGrpSpPr/>
          <p:nvPr/>
        </p:nvGrpSpPr>
        <p:grpSpPr>
          <a:xfrm>
            <a:off x="5042160" y="1791360"/>
            <a:ext cx="4471200" cy="5083200"/>
            <a:chOff x="5042160" y="1791360"/>
            <a:chExt cx="4471200" cy="5083200"/>
          </a:xfrm>
        </p:grpSpPr>
        <p:grpSp>
          <p:nvGrpSpPr>
            <p:cNvPr id="152" name="Group 5"/>
            <p:cNvGrpSpPr/>
            <p:nvPr/>
          </p:nvGrpSpPr>
          <p:grpSpPr>
            <a:xfrm>
              <a:off x="5042160" y="1791360"/>
              <a:ext cx="4471200" cy="5083200"/>
              <a:chOff x="5042160" y="1791360"/>
              <a:chExt cx="4471200" cy="5083200"/>
            </a:xfrm>
          </p:grpSpPr>
          <p:sp>
            <p:nvSpPr>
              <p:cNvPr id="15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55"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56" name="Freeform 9"/>
          <p:cNvSpPr/>
          <p:nvPr/>
        </p:nvSpPr>
        <p:spPr>
          <a:xfrm>
            <a:off x="5583240" y="3251160"/>
            <a:ext cx="3160800" cy="601560"/>
          </a:xfrm>
          <a:custGeom>
            <a:avLst/>
            <a:gdLst>
              <a:gd name="textAreaLeft" fmla="*/ 0 w 3160800"/>
              <a:gd name="textAreaRight" fmla="*/ 3161160 w 3160800"/>
              <a:gd name="textAreaTop" fmla="*/ 0 h 601560"/>
              <a:gd name="textAreaBottom" fmla="*/ 601920 h 601560"/>
            </a:gdLst>
            <a:ahLst/>
            <a:rect l="textAreaLeft" t="textAreaTop" r="textAreaRight" b="textAreaBottom"/>
            <a:pathLst>
              <a:path w="1991" h="379">
                <a:moveTo>
                  <a:pt x="1000" y="5"/>
                </a:moveTo>
                <a:cubicBezTo>
                  <a:pt x="1142" y="13"/>
                  <a:pt x="1697" y="5"/>
                  <a:pt x="1844" y="56"/>
                </a:cubicBezTo>
                <a:cubicBezTo>
                  <a:pt x="1991" y="107"/>
                  <a:pt x="1982" y="260"/>
                  <a:pt x="1884" y="313"/>
                </a:cubicBezTo>
                <a:cubicBezTo>
                  <a:pt x="1786" y="366"/>
                  <a:pt x="1542" y="379"/>
                  <a:pt x="1256" y="376"/>
                </a:cubicBezTo>
                <a:cubicBezTo>
                  <a:pt x="970" y="373"/>
                  <a:pt x="334" y="352"/>
                  <a:pt x="167" y="296"/>
                </a:cubicBezTo>
                <a:cubicBezTo>
                  <a:pt x="0" y="240"/>
                  <a:pt x="129" y="78"/>
                  <a:pt x="253" y="39"/>
                </a:cubicBezTo>
                <a:cubicBezTo>
                  <a:pt x="377" y="0"/>
                  <a:pt x="776" y="57"/>
                  <a:pt x="914"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1" presetSubtype="1">
                                  <p:stCondLst>
                                    <p:cond delay="1000"/>
                                  </p:stCondLst>
                                  <p:childTnLst>
                                    <p:set>
                                      <p:cBhvr>
                                        <p:cTn id="13" dur="1" fill="hold">
                                          <p:stCondLst>
                                            <p:cond delay="0"/>
                                          </p:stCondLst>
                                        </p:cTn>
                                        <p:tgtEl>
                                          <p:spTgt spid="156"/>
                                        </p:tgtEl>
                                        <p:attrNameLst>
                                          <p:attrName>style.visibility</p:attrName>
                                        </p:attrNameLst>
                                      </p:cBhvr>
                                      <p:to>
                                        <p:strVal val="visible"/>
                                      </p:to>
                                    </p:set>
                                    <p:animEffect filter="wheel(1)" transition="in">
                                      <p:cBhvr additive="repl">
                                        <p:cTn id="1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25Z</dcterms:modified>
  <cp:revision>69</cp:revision>
  <dc:subject/>
  <dc:title>The Pattern of Teaching Children</dc:title>
</cp:coreProperties>
</file>